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5B15-3709-4D5E-82B4-7E9951B3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BDC-082A-49D4-B72E-B2FBC7FA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B953-E459-4F27-84C8-30273355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969-3801-48C6-8E7E-F5E16075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01D-031A-469E-ACE7-3B5726A7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C70-D1C4-40A8-801A-F659B308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1001-28DA-4084-98E4-75099D60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BFBA-2FF6-4DC1-898E-EF873667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D27-17FB-4BC7-822F-79235BD1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380C-890B-43B9-BDA5-778496D0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6FC-2D7F-4586-B231-CA8BF5F6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323D-A6EF-4517-8B68-95FE2DE0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3AD0-FABE-47FA-85A3-BFFB096BF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Venn Diagram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Bar Graph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at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ict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gular Polygon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olid Figur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pher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rapezoid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Vert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enominator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ighth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rac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Mixed Number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Num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ixth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enth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hird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ol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Unit F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+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-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ssociative Property of Addi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Associative Property of Multiplic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mmutative Property of Addi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Commutative Property of Multiplica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ifference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dentity Property of Addi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Identity Property of Multiplica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-grouping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housands pla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stimat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xpanded Form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lace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stimat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oot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ur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M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econd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emperatur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hermomete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Y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ngl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cav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vex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elsius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ahrenheit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entimeter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ub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ylinder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d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ac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exag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rregular Polygon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ent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lane Figur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olyg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Quadrilateral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ctangular P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0:44:08Z</dcterms:created>
  <dc:creator>Abby Owens</dc:creator>
  <dc:description/>
  <dc:language>en-US</dc:language>
  <cp:lastModifiedBy>Abby Owens</cp:lastModifiedBy>
  <dcterms:modified xsi:type="dcterms:W3CDTF">2010-05-28T01:13:41Z</dcterms:modified>
  <cp:revision>14</cp:revision>
  <dc:subject/>
  <dc:title>Venn Diagram  Graph  Pictograph</dc:title>
</cp:coreProperties>
</file>